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C99466-6015-402F-B84D-08710C352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7FF491-6E19-4AF5-970B-F41C281D958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AD3DD4-4F70-442F-B321-46FC5536E5B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BD9730-43B0-4EB3-8E1A-249788AE821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25D63A-61DE-4F3B-8FBB-020186A1129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7C200E-7973-4EFC-85C3-BA94CB27E54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13DC51-83DF-48A6-B858-F3F77E6B151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6087FD-373D-43DC-AD38-4D115A8AE43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CC1749-3C01-498E-8CAB-BEEDD937DB8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327719-813F-4493-9C3A-85E033790A3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6CDC0D-2EFF-4652-9051-BBCD4A3B63D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494669-60CE-4BAC-9306-4516ACAA61C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C6FCB0-1671-45A6-BC0B-CE83BB6F10C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849E33-0ECD-40E6-8CCC-E5B69C42296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C77841-21A3-46DB-87FC-38DE4DE133B9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5C48E4-5A17-4CF3-83C1-E531BC8750B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A80545-2464-4D19-A6BC-26F90EB6D8BC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EA111A-E9AA-4E85-8664-323CF415A6AD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37E5B1-B09A-4210-AA28-08FED741A797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C9A7C5-87A8-4428-A0B0-FE834F4858E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D0BF12-E7D6-4DB0-BC87-DCFD0ACB95F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86DC04-C628-4250-9055-1C924513EC0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39FEC4-E00B-42EB-BB37-A394F041FDA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F213FB-BB70-41A8-B75D-523AAC071E4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B38C84-DDEB-4D1E-8356-4BE06EE7875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DBE-AE1C-4EAD-BB86-2CCE1258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629-50B7-4F88-98AF-E17A2053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5ED-82C1-48ED-897E-32C06591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91F-AEA7-4C16-8389-BEF2D0B2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ECDD-E036-4D97-9715-438085D2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ED5B-BE20-44A7-9F14-1BE74396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C650-9B37-4DC0-A7AF-C6B7C161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4763-4475-4AC2-82D4-55D05984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86D6-C7D7-469A-AA76-F306DEB7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4118-15D3-4A3C-8FD6-5981D183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346F-3F39-4FDA-BEE8-1EE5CC7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E76-F0D3-4507-9F55-0C14B968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5A13-C5D3-418E-BF83-AC79146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7894-E4A6-4358-8395-0D37F544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DDA-48EF-4157-887D-5519CA13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353E-B72C-4EC5-A503-78CCC2F2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2AF1-C0CE-4750-B0B8-6B15B2E7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4B7-38DA-4BBB-8B94-1AF8623B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8DE-8A77-4DEC-92BB-413A50CE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F4E-B929-4E55-A067-0654C565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35C-AC00-4CDF-94FA-11BFE53A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799-6C1D-4117-8895-46DAB673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DD7-67E4-498F-B76F-16212B37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9A2-2E5A-4DF4-8863-369E96D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B210-7512-423A-9877-8E3DA099E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D179-52C7-41C1-9B53-483B772EF7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FA8E-BDB5-4B09-808D-AC8AE97676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hoo! Presentation,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s://en.wikipedia.org/wiki/Central_limit_theorem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Par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2" name="Picture 3" descr="Screen Shot 2012-09-25 at 10.54.11 AM.png"/>
          <p:cNvPicPr/>
          <p:nvPr/>
        </p:nvPicPr>
        <p:blipFill>
          <a:blip r:embed="rId1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7" name="Picture 4" descr="Screen Shot 2012-09-25 at 10.50.55 AM.png"/>
          <p:cNvPicPr/>
          <p:nvPr/>
        </p:nvPicPr>
        <p:blipFill>
          <a:blip r:embed="rId1"/>
          <a:stretch/>
        </p:blipFill>
        <p:spPr>
          <a:xfrm>
            <a:off x="57240" y="361800"/>
            <a:ext cx="9029520" cy="613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Screen Shot 2012-09-25 at 10.49.29 AM.png"/>
          <p:cNvPicPr/>
          <p:nvPr/>
        </p:nvPicPr>
        <p:blipFill>
          <a:blip r:embed="rId2"/>
          <a:stretch/>
        </p:blipFill>
        <p:spPr>
          <a:xfrm>
            <a:off x="0" y="380880"/>
            <a:ext cx="900576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Rettangolo arrotondato 6"/>
          <p:cNvSpPr/>
          <p:nvPr/>
        </p:nvSpPr>
        <p:spPr>
          <a:xfrm>
            <a:off x="1547640" y="465300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4" name="Picture 3" descr="Screen Shot 2012-09-25 at 11.02.27 AM.pn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275" name="Rettangolo arrotondato 4"/>
          <p:cNvSpPr/>
          <p:nvPr/>
        </p:nvSpPr>
        <p:spPr>
          <a:xfrm>
            <a:off x="1258920" y="5877000"/>
            <a:ext cx="676908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0" name="Picture 8" descr="Screen Shot 2012-09-25 at 11.04.41 AM.pn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291" name="Rettangolo arrotondato 10"/>
          <p:cNvSpPr/>
          <p:nvPr/>
        </p:nvSpPr>
        <p:spPr>
          <a:xfrm>
            <a:off x="1403280" y="1916280"/>
            <a:ext cx="6769080" cy="1225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6" name="Picture 3" descr="Screen Shot 2012-09-25 at 11.06.10 AM.png"/>
          <p:cNvPicPr/>
          <p:nvPr/>
        </p:nvPicPr>
        <p:blipFill>
          <a:blip r:embed="rId1"/>
          <a:stretch/>
        </p:blipFill>
        <p:spPr>
          <a:xfrm>
            <a:off x="34920" y="-33480"/>
            <a:ext cx="9144000" cy="6662880"/>
          </a:xfrm>
          <a:prstGeom prst="rect">
            <a:avLst/>
          </a:prstGeom>
          <a:ln w="0">
            <a:noFill/>
          </a:ln>
        </p:spPr>
      </p:pic>
      <p:sp>
        <p:nvSpPr>
          <p:cNvPr id="297" name="Freccia in su 1"/>
          <p:cNvSpPr/>
          <p:nvPr/>
        </p:nvSpPr>
        <p:spPr>
          <a:xfrm>
            <a:off x="2627280" y="476280"/>
            <a:ext cx="792360" cy="8953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134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142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8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149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2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153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154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5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6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7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8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9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60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1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2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4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5" name="AutoShape 44"/>
              <p:cNvCxnSpPr>
                <a:stCxn id="160" idx="3"/>
                <a:endCxn id="161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" name="AutoShape 45"/>
              <p:cNvCxnSpPr>
                <a:stCxn id="161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7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8" name="AutoShape 47"/>
              <p:cNvCxnSpPr>
                <a:stCxn id="167" idx="3"/>
                <a:endCxn id="162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9" name="AutoShape 48"/>
              <p:cNvCxnSpPr>
                <a:stCxn id="162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0" name="AutoShape 49"/>
              <p:cNvCxnSpPr>
                <a:stCxn id="163" idx="3"/>
                <a:endCxn id="164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71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172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3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4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5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6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177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nguage-specific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y of the above features embody transformations that a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-specific an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ften, application-specif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“plug-in” addenda to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oth open source and commercial plug-ins are available for handling the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.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stical properties of tex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atistical properties of tex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kens are not distributed uniformly. They follow the so called  “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Zipf La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 tokens are very frequ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middle sized set has medium frequenc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y are r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first 100 tokens sum up to 50% of the text, and many of them ar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top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short-zipf"/>
          <p:cNvPicPr/>
          <p:nvPr/>
        </p:nvPicPr>
        <p:blipFill>
          <a:blip r:embed="rId1"/>
          <a:stretch/>
        </p:blipFill>
        <p:spPr>
          <a:xfrm>
            <a:off x="826920" y="1682640"/>
            <a:ext cx="7824960" cy="5175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890280" y="69228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An example of “Zipf curve”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log-log plot for a Zipf’s curv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8" name="Picture 3" descr="ZipfsLaw"/>
          <p:cNvPicPr/>
          <p:nvPr/>
        </p:nvPicPr>
        <p:blipFill>
          <a:blip r:embed="rId1"/>
          <a:stretch/>
        </p:blipFill>
        <p:spPr>
          <a:xfrm>
            <a:off x="1600200" y="1676520"/>
            <a:ext cx="639936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000" y="1692000"/>
            <a:ext cx="8135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-th most frequent token has frequency f(k) approximately 1/k;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quivalently, the product of the frequency f(k) of a token and its rank k is a cons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7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Scale invariant: f(b*k) = b</a:t>
            </a:r>
            <a:r>
              <a:rPr b="0" lang="it-IT" sz="3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31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 * f(k)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Zipf Law, in detai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4861080" y="4005360"/>
            <a:ext cx="2071440" cy="1447560"/>
            <a:chOff x="4861080" y="4005360"/>
            <a:chExt cx="2071440" cy="1447560"/>
          </a:xfrm>
        </p:grpSpPr>
        <p:sp>
          <p:nvSpPr>
            <p:cNvPr id="312" name="Rectangle 5"/>
            <p:cNvSpPr/>
            <p:nvPr/>
          </p:nvSpPr>
          <p:spPr>
            <a:xfrm>
              <a:off x="4861080" y="4005360"/>
              <a:ext cx="2057040" cy="144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(k) = c /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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6623640" y="414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4" name="Rectangle 7"/>
          <p:cNvSpPr/>
          <p:nvPr/>
        </p:nvSpPr>
        <p:spPr>
          <a:xfrm>
            <a:off x="1692360" y="3933720"/>
            <a:ext cx="2057400" cy="1447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k * f(k) = 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f(k) = c  /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079960" y="5445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MS PGothic"/>
              </a:rPr>
              <a:t>General L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istribution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vs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umulative dist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17" name="Picture 3" descr="C:\Documents and Settings\ferragin\Desktop\325px-Zipf_distribution_PMF.png"/>
          <p:cNvPicPr/>
          <p:nvPr/>
        </p:nvPicPr>
        <p:blipFill>
          <a:blip r:embed="rId1"/>
          <a:stretch/>
        </p:blipFill>
        <p:spPr>
          <a:xfrm>
            <a:off x="142920" y="1714680"/>
            <a:ext cx="4143240" cy="31096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C:\Documents and Settings\ferragin\Desktop\325px-Zipf_distribution_CMF.png"/>
          <p:cNvPicPr/>
          <p:nvPr/>
        </p:nvPicPr>
        <p:blipFill>
          <a:blip r:embed="rId2"/>
          <a:stretch/>
        </p:blipFill>
        <p:spPr>
          <a:xfrm>
            <a:off x="4857840" y="1714680"/>
            <a:ext cx="4143240" cy="311148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9"/>
          <p:cNvGrpSpPr/>
          <p:nvPr/>
        </p:nvGrpSpPr>
        <p:grpSpPr>
          <a:xfrm>
            <a:off x="520560" y="5373720"/>
            <a:ext cx="8172360" cy="1527120"/>
            <a:chOff x="520560" y="5373720"/>
            <a:chExt cx="8172360" cy="1527120"/>
          </a:xfrm>
        </p:grpSpPr>
        <p:sp>
          <p:nvSpPr>
            <p:cNvPr id="320" name="AutoShape 10"/>
            <p:cNvSpPr/>
            <p:nvPr/>
          </p:nvSpPr>
          <p:spPr>
            <a:xfrm>
              <a:off x="520560" y="5373720"/>
              <a:ext cx="8172360" cy="1198440"/>
            </a:xfrm>
            <a:prstGeom prst="roundRect">
              <a:avLst>
                <a:gd name="adj" fmla="val 16667"/>
              </a:avLst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1" name="Text Box 11"/>
            <p:cNvSpPr/>
            <p:nvPr/>
          </p:nvSpPr>
          <p:spPr>
            <a:xfrm>
              <a:off x="865440" y="5527080"/>
              <a:ext cx="7428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MS PGothic"/>
                </a:rPr>
                <a:t>Sum after the k-th element is ≤ f(k) * k/(s-1)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MS PGothic"/>
                </a:rPr>
                <a:t>Sum up to the k-th element is ≥ f(k) *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2" name="Text Box 12"/>
          <p:cNvSpPr/>
          <p:nvPr/>
        </p:nvSpPr>
        <p:spPr>
          <a:xfrm>
            <a:off x="4773240" y="4786200"/>
            <a:ext cx="41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MS PGothic"/>
              </a:rPr>
              <a:t>Power-law with smaller expon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79440" y="482904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MS PGothic"/>
              </a:rPr>
              <a:t>Log-log plo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tatistical properties of tex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number of distinct tokens grows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so called  “</a:t>
            </a:r>
            <a:r>
              <a:rPr b="0" lang="en-US" sz="2000" spc="-1" strike="noStrike">
                <a:solidFill>
                  <a:srgbClr val="ff3300"/>
                </a:solidFill>
                <a:latin typeface="Lucida Sans"/>
              </a:rPr>
              <a:t>Heaps La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”  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1, tipically 0.5, where n is the total number of toke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average token length grows a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log n)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esting words are the ones with medium frequency (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Luh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6" name="Picture 4" descr="zipf-resolving"/>
          <p:cNvPicPr/>
          <p:nvPr/>
        </p:nvPicPr>
        <p:blipFill>
          <a:blip r:embed="rId1"/>
          <a:srcRect l="0" t="0" r="0" b="17230"/>
          <a:stretch/>
        </p:blipFill>
        <p:spPr>
          <a:xfrm>
            <a:off x="5145120" y="4649760"/>
            <a:ext cx="38908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ywords extra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247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Key step in many IR task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fine the token in Invert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fine dictionary terms in bag-of-wor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tc. 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Supervised and unsupervis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Keyword extra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185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2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193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9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200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03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204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205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6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7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8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9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10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211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16" name="AutoShape 44"/>
              <p:cNvCxnSpPr>
                <a:stCxn id="211" idx="3"/>
                <a:endCxn id="212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7" name="AutoShape 45"/>
              <p:cNvCxnSpPr>
                <a:stCxn id="212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8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19" name="AutoShape 47"/>
              <p:cNvCxnSpPr>
                <a:stCxn id="218" idx="3"/>
                <a:endCxn id="213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0" name="AutoShape 48"/>
              <p:cNvCxnSpPr>
                <a:stCxn id="213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1" name="AutoShape 49"/>
              <p:cNvCxnSpPr>
                <a:stCxn id="214" idx="3"/>
                <a:endCxn id="215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22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223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4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5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6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7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228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5" name="Picture 52" descr="Screen Shot 2012-09-25 at 11.11.30 AM.png"/>
          <p:cNvPicPr/>
          <p:nvPr/>
        </p:nvPicPr>
        <p:blipFill>
          <a:blip r:embed="rId6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236" name="Ovale 4"/>
          <p:cNvSpPr/>
          <p:nvPr/>
        </p:nvSpPr>
        <p:spPr>
          <a:xfrm>
            <a:off x="5435640" y="6315120"/>
            <a:ext cx="682560" cy="461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Ovale 54"/>
          <p:cNvSpPr/>
          <p:nvPr/>
        </p:nvSpPr>
        <p:spPr>
          <a:xfrm>
            <a:off x="1620720" y="2286000"/>
            <a:ext cx="2519640" cy="461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tatistical extra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Collocation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wo or more words that correspond to some conventional way of say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Limited compositiona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eaning cannot be fully inferred by its constitutent words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white win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white hai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Non substituabi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nnot substitute other words and keep same meaning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yellow win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Non modifiabi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nnot add lexical material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an idiom would be change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Just frequency + PoS tagg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4" name="Immagine 2" descr=""/>
          <p:cNvPicPr/>
          <p:nvPr/>
        </p:nvPicPr>
        <p:blipFill>
          <a:blip r:embed="rId1"/>
          <a:stretch/>
        </p:blipFill>
        <p:spPr>
          <a:xfrm>
            <a:off x="147600" y="1989000"/>
            <a:ext cx="3341880" cy="3436920"/>
          </a:xfrm>
          <a:prstGeom prst="rect">
            <a:avLst/>
          </a:prstGeom>
          <a:ln w="0">
            <a:noFill/>
          </a:ln>
        </p:spPr>
      </p:pic>
      <p:pic>
        <p:nvPicPr>
          <p:cNvPr id="335" name="Immagine 3" descr=""/>
          <p:cNvPicPr/>
          <p:nvPr/>
        </p:nvPicPr>
        <p:blipFill>
          <a:blip r:embed="rId2"/>
          <a:stretch/>
        </p:blipFill>
        <p:spPr>
          <a:xfrm>
            <a:off x="3868560" y="1557360"/>
            <a:ext cx="4591080" cy="2341440"/>
          </a:xfrm>
          <a:prstGeom prst="rect">
            <a:avLst/>
          </a:prstGeom>
          <a:ln w="0">
            <a:noFill/>
          </a:ln>
        </p:spPr>
      </p:pic>
      <p:pic>
        <p:nvPicPr>
          <p:cNvPr id="336" name="Immagine 5" descr=""/>
          <p:cNvPicPr/>
          <p:nvPr/>
        </p:nvPicPr>
        <p:blipFill>
          <a:blip r:embed="rId3"/>
          <a:stretch/>
        </p:blipFill>
        <p:spPr>
          <a:xfrm>
            <a:off x="3833640" y="4025880"/>
            <a:ext cx="469908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ean and Vari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ttangolo 1"/>
          <p:cNvSpPr/>
          <p:nvPr/>
        </p:nvSpPr>
        <p:spPr>
          <a:xfrm>
            <a:off x="533520" y="184464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Often the words are not adjacent to each other (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need flexibilit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9" name="Immagine 4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5079960" cy="1739880"/>
          </a:xfrm>
          <a:prstGeom prst="rect">
            <a:avLst/>
          </a:prstGeom>
          <a:ln w="0">
            <a:noFill/>
          </a:ln>
        </p:spPr>
      </p:pic>
      <p:sp>
        <p:nvSpPr>
          <p:cNvPr id="340" name="Rettangolo 8"/>
          <p:cNvSpPr/>
          <p:nvPr/>
        </p:nvSpPr>
        <p:spPr>
          <a:xfrm>
            <a:off x="533520" y="4869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ompute the mean and the variance of the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distanc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, by restricting within a window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Connettore 1 2"/>
          <p:cNvSpPr/>
          <p:nvPr/>
        </p:nvSpPr>
        <p:spPr>
          <a:xfrm>
            <a:off x="3059280" y="2924280"/>
            <a:ext cx="86508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Connettore 1 8"/>
          <p:cNvSpPr/>
          <p:nvPr/>
        </p:nvSpPr>
        <p:spPr>
          <a:xfrm>
            <a:off x="4716360" y="2924280"/>
            <a:ext cx="43200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Connettore 1 10"/>
          <p:cNvSpPr/>
          <p:nvPr/>
        </p:nvSpPr>
        <p:spPr>
          <a:xfrm>
            <a:off x="3132000" y="3357720"/>
            <a:ext cx="863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Connettore 1 11"/>
          <p:cNvSpPr/>
          <p:nvPr/>
        </p:nvSpPr>
        <p:spPr>
          <a:xfrm>
            <a:off x="4788000" y="335772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Connettore 1 12"/>
          <p:cNvSpPr/>
          <p:nvPr/>
        </p:nvSpPr>
        <p:spPr>
          <a:xfrm>
            <a:off x="3924360" y="3789360"/>
            <a:ext cx="863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Connettore 1 13"/>
          <p:cNvSpPr/>
          <p:nvPr/>
        </p:nvSpPr>
        <p:spPr>
          <a:xfrm>
            <a:off x="6516720" y="378936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Connettore 1 14"/>
          <p:cNvSpPr/>
          <p:nvPr/>
        </p:nvSpPr>
        <p:spPr>
          <a:xfrm>
            <a:off x="3419640" y="4221000"/>
            <a:ext cx="86508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Connettore 1 15"/>
          <p:cNvSpPr/>
          <p:nvPr/>
        </p:nvSpPr>
        <p:spPr>
          <a:xfrm>
            <a:off x="6280200" y="422604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ample of distance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0" name="Immagine 3" descr=""/>
          <p:cNvPicPr/>
          <p:nvPr/>
        </p:nvPicPr>
        <p:blipFill>
          <a:blip r:embed="rId1"/>
          <a:srcRect l="0" t="1455" r="0" b="48580"/>
          <a:stretch/>
        </p:blipFill>
        <p:spPr>
          <a:xfrm>
            <a:off x="1258920" y="1700280"/>
            <a:ext cx="7083360" cy="2592360"/>
          </a:xfrm>
          <a:prstGeom prst="rect">
            <a:avLst/>
          </a:prstGeom>
          <a:ln w="0">
            <a:noFill/>
          </a:ln>
        </p:spPr>
      </p:pic>
      <p:pic>
        <p:nvPicPr>
          <p:cNvPr id="351" name="Immagine 3" descr=""/>
          <p:cNvPicPr/>
          <p:nvPr/>
        </p:nvPicPr>
        <p:blipFill>
          <a:blip r:embed="rId2"/>
          <a:srcRect l="0" t="1455" r="0" b="0"/>
          <a:stretch/>
        </p:blipFill>
        <p:spPr>
          <a:xfrm>
            <a:off x="1258920" y="1700280"/>
            <a:ext cx="7083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ample of distance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3" name="Immagine 1" descr=""/>
          <p:cNvPicPr/>
          <p:nvPr/>
        </p:nvPicPr>
        <p:blipFill>
          <a:blip r:embed="rId1"/>
          <a:stretch/>
        </p:blipFill>
        <p:spPr>
          <a:xfrm>
            <a:off x="1809720" y="1628640"/>
            <a:ext cx="6507360" cy="3926160"/>
          </a:xfrm>
          <a:prstGeom prst="rect">
            <a:avLst/>
          </a:prstGeom>
          <a:ln w="0">
            <a:noFill/>
          </a:ln>
        </p:spPr>
      </p:pic>
      <p:sp>
        <p:nvSpPr>
          <p:cNvPr id="354" name="Rettangolo 4"/>
          <p:cNvSpPr/>
          <p:nvPr/>
        </p:nvSpPr>
        <p:spPr>
          <a:xfrm>
            <a:off x="684360" y="5661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s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larg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the collocation is not interes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d &gt; 0 and s very small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interesting (new) phra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Parentesi graffa aperta 3"/>
          <p:cNvSpPr/>
          <p:nvPr/>
        </p:nvSpPr>
        <p:spPr>
          <a:xfrm>
            <a:off x="1522440" y="3349800"/>
            <a:ext cx="601560" cy="1015920"/>
          </a:xfrm>
          <a:custGeom>
            <a:avLst/>
            <a:gdLst>
              <a:gd name="textAreaLeft" fmla="*/ 384480 w 601560"/>
              <a:gd name="textAreaRight" fmla="*/ 601920 w 601560"/>
              <a:gd name="textAreaTop" fmla="*/ 15480 h 1015920"/>
              <a:gd name="textAreaBottom" fmla="*/ 10004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2"/>
                  <a:pt x="10800" y="1064"/>
                </a:cubicBezTo>
                <a:lnTo>
                  <a:pt x="10800" y="10102"/>
                </a:lnTo>
                <a:cubicBezTo>
                  <a:pt x="10800" y="10634"/>
                  <a:pt x="5400" y="11166"/>
                  <a:pt x="0" y="11166"/>
                </a:cubicBezTo>
                <a:cubicBezTo>
                  <a:pt x="5400" y="11166"/>
                  <a:pt x="10800" y="11698"/>
                  <a:pt x="10800" y="12230"/>
                </a:cubicBezTo>
                <a:lnTo>
                  <a:pt x="10800" y="20536"/>
                </a:lnTo>
                <a:cubicBezTo>
                  <a:pt x="10800" y="2106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68040" y="3284640"/>
            <a:ext cx="13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MS PGothic"/>
              </a:rPr>
              <a:t>High s n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MS PGothic"/>
              </a:rPr>
              <a:t>interest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MS PGothic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 (</a:t>
            </a:r>
            <a:r>
              <a:rPr b="0" i="1" lang="it-IT" sz="3200" spc="-1" strike="noStrike">
                <a:solidFill>
                  <a:srgbClr val="ff0000"/>
                </a:solidFill>
                <a:latin typeface="Lucida Sans"/>
              </a:rPr>
              <a:t>bigrams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ettangolo 4"/>
          <p:cNvSpPr/>
          <p:nvPr/>
        </p:nvSpPr>
        <p:spPr>
          <a:xfrm>
            <a:off x="611280" y="59072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it is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improbably larg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, then reject the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ull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hyp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9" name="Immagine 1" descr=""/>
          <p:cNvPicPr/>
          <p:nvPr/>
        </p:nvPicPr>
        <p:blipFill>
          <a:blip r:embed="rId1"/>
          <a:stretch/>
        </p:blipFill>
        <p:spPr>
          <a:xfrm>
            <a:off x="4254480" y="1844640"/>
            <a:ext cx="4803840" cy="3664080"/>
          </a:xfrm>
          <a:prstGeom prst="rect">
            <a:avLst/>
          </a:prstGeom>
          <a:ln w="0">
            <a:noFill/>
          </a:ln>
        </p:spPr>
      </p:pic>
      <p:sp>
        <p:nvSpPr>
          <p:cNvPr id="360" name="Rettangolo 2"/>
          <p:cNvSpPr/>
          <p:nvPr/>
        </p:nvSpPr>
        <p:spPr>
          <a:xfrm>
            <a:off x="250920" y="2057400"/>
            <a:ext cx="388944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22222"/>
                </a:solidFill>
                <a:latin typeface="Lucida Sans"/>
                <a:ea typeface="Arial"/>
              </a:rPr>
              <a:t>Test statistics that follow a chi-squared distribution arise from an assumption of independent normally distributed data, which is valid in many cases due to the 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Lucida Sans"/>
                <a:ea typeface="Arial"/>
                <a:hlinkClick r:id="rId2"/>
              </a:rPr>
              <a:t>central limit theorem</a:t>
            </a:r>
            <a:r>
              <a:rPr b="0" lang="it-IT" sz="2000" spc="-1" strike="noStrike">
                <a:solidFill>
                  <a:srgbClr val="222222"/>
                </a:solidFill>
                <a:latin typeface="Lucida Sans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 (</a:t>
            </a:r>
            <a:r>
              <a:rPr b="0" i="1" lang="it-IT" sz="3200" spc="-1" strike="noStrike">
                <a:solidFill>
                  <a:srgbClr val="ff0000"/>
                </a:solidFill>
                <a:latin typeface="Lucida Sans"/>
              </a:rPr>
              <a:t>bigrams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Rettangolo 4"/>
          <p:cNvSpPr/>
          <p:nvPr/>
        </p:nvSpPr>
        <p:spPr>
          <a:xfrm>
            <a:off x="533520" y="1587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t is good for few occurren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3" name="Immagine 2" descr=""/>
          <p:cNvPicPr/>
          <p:nvPr/>
        </p:nvPicPr>
        <p:blipFill>
          <a:blip r:embed="rId1"/>
          <a:stretch/>
        </p:blipFill>
        <p:spPr>
          <a:xfrm>
            <a:off x="501480" y="2379600"/>
            <a:ext cx="8318520" cy="3365640"/>
          </a:xfrm>
          <a:prstGeom prst="rect">
            <a:avLst/>
          </a:prstGeom>
          <a:ln w="0">
            <a:noFill/>
          </a:ln>
        </p:spPr>
      </p:pic>
      <p:sp>
        <p:nvSpPr>
          <p:cNvPr id="364" name="Rettangolo 3"/>
          <p:cNvSpPr/>
          <p:nvPr/>
        </p:nvSpPr>
        <p:spPr>
          <a:xfrm>
            <a:off x="0" y="602136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For an r * c table, there are (r - 1)(c - 1) degrees of free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6" name="Immagine 2" descr=""/>
          <p:cNvPicPr/>
          <p:nvPr/>
        </p:nvPicPr>
        <p:blipFill>
          <a:blip r:embed="rId1"/>
          <a:srcRect l="11338" t="7969" r="8279" b="44379"/>
          <a:stretch/>
        </p:blipFill>
        <p:spPr>
          <a:xfrm>
            <a:off x="961920" y="1643040"/>
            <a:ext cx="7047000" cy="1692360"/>
          </a:xfrm>
          <a:prstGeom prst="rect">
            <a:avLst/>
          </a:prstGeom>
          <a:ln w="0">
            <a:noFill/>
          </a:ln>
        </p:spPr>
      </p:pic>
      <p:pic>
        <p:nvPicPr>
          <p:cNvPr id="367" name="Immagine 1" descr=""/>
          <p:cNvPicPr/>
          <p:nvPr/>
        </p:nvPicPr>
        <p:blipFill>
          <a:blip r:embed="rId2"/>
          <a:srcRect l="0" t="0" r="10430" b="0"/>
          <a:stretch/>
        </p:blipFill>
        <p:spPr>
          <a:xfrm>
            <a:off x="515880" y="4071960"/>
            <a:ext cx="3335400" cy="1104840"/>
          </a:xfrm>
          <a:prstGeom prst="rect">
            <a:avLst/>
          </a:prstGeom>
          <a:ln w="0">
            <a:noFill/>
          </a:ln>
        </p:spPr>
      </p:pic>
      <p:sp>
        <p:nvSpPr>
          <p:cNvPr id="368" name="Rettangolo 5"/>
          <p:cNvSpPr/>
          <p:nvPr/>
        </p:nvSpPr>
        <p:spPr>
          <a:xfrm>
            <a:off x="395280" y="321300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To estabish the significance of a collocation,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Rettangolo 7"/>
          <p:cNvSpPr/>
          <p:nvPr/>
        </p:nvSpPr>
        <p:spPr>
          <a:xfrm>
            <a:off x="3929040" y="42339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where E_ij = N * freq(i) * freq(j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0" name="Gruppo 8"/>
          <p:cNvGrpSpPr/>
          <p:nvPr/>
        </p:nvGrpSpPr>
        <p:grpSpPr>
          <a:xfrm>
            <a:off x="77760" y="4711680"/>
            <a:ext cx="7710480" cy="1733400"/>
            <a:chOff x="77760" y="4711680"/>
            <a:chExt cx="7710480" cy="1733400"/>
          </a:xfrm>
        </p:grpSpPr>
        <p:pic>
          <p:nvPicPr>
            <p:cNvPr id="371" name="Immagine 3" descr=""/>
            <p:cNvPicPr/>
            <p:nvPr/>
          </p:nvPicPr>
          <p:blipFill>
            <a:blip r:embed="rId3"/>
            <a:srcRect l="3182" t="0" r="3688" b="0"/>
            <a:stretch/>
          </p:blipFill>
          <p:spPr>
            <a:xfrm>
              <a:off x="516240" y="5403600"/>
              <a:ext cx="72720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Freccia circolare a destra 6"/>
            <p:cNvSpPr/>
            <p:nvPr/>
          </p:nvSpPr>
          <p:spPr>
            <a:xfrm>
              <a:off x="77760" y="4711680"/>
              <a:ext cx="366480" cy="1563120"/>
            </a:xfrm>
            <a:custGeom>
              <a:avLst/>
              <a:gdLst>
                <a:gd name="textAreaLeft" fmla="*/ 48960 w 366480"/>
                <a:gd name="textAreaRight" fmla="*/ 317520 w 366480"/>
                <a:gd name="textAreaTop" fmla="*/ 307800 h 1563120"/>
                <a:gd name="textAreaBottom" fmla="*/ 1015920 h 156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15" stAng="-5400000" swAng="-5400000"/>
                  <a:lnTo>
                    <a:pt x="0" y="9781"/>
                  </a:lnTo>
                  <a:arcTo wR="21600" hR="8515" stAng="10800000" swAng="-3406484"/>
                  <a:lnTo>
                    <a:pt x="16200" y="21330"/>
                  </a:lnTo>
                  <a:lnTo>
                    <a:pt x="21600" y="17662"/>
                  </a:lnTo>
                  <a:lnTo>
                    <a:pt x="16200" y="13454"/>
                  </a:lnTo>
                  <a:lnTo>
                    <a:pt x="16200" y="16759"/>
                  </a:lnTo>
                  <a:arcTo wR="21600" hR="8515" stAng="7393516" swAng="3305489"/>
                  <a:lnTo>
                    <a:pt x="60" y="9147"/>
                  </a:lnTo>
                  <a:arcTo wR="21600" hR="8515" stAng="-10699004" swAng="5299004"/>
                  <a:close/>
                </a:path>
                <a:path fill="darkenLess" w="21600" h="21600">
                  <a:moveTo>
                    <a:pt x="21600" y="0"/>
                  </a:moveTo>
                  <a:arcTo wR="21600" hR="8515" stAng="-5400000" swAng="-5400000"/>
                  <a:lnTo>
                    <a:pt x="0" y="8515"/>
                  </a:lnTo>
                  <a:arcTo wR="21600" hR="8515" stAng="10800000" swAng="-100996"/>
                  <a:lnTo>
                    <a:pt x="60" y="9147"/>
                  </a:lnTo>
                  <a:arcTo wR="21600" hR="8515" stAng="-10699004" swAng="5299004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3" name="Rettangolo 9"/>
          <p:cNvSpPr/>
          <p:nvPr/>
        </p:nvSpPr>
        <p:spPr>
          <a:xfrm>
            <a:off x="7786080" y="57229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1.5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5" name="Immagine 2" descr=""/>
          <p:cNvPicPr/>
          <p:nvPr/>
        </p:nvPicPr>
        <p:blipFill>
          <a:blip r:embed="rId1"/>
          <a:srcRect l="11338" t="7969" r="8279" b="44379"/>
          <a:stretch/>
        </p:blipFill>
        <p:spPr>
          <a:xfrm>
            <a:off x="582480" y="1557360"/>
            <a:ext cx="4926240" cy="1182600"/>
          </a:xfrm>
          <a:prstGeom prst="rect">
            <a:avLst/>
          </a:prstGeom>
          <a:ln w="0">
            <a:noFill/>
          </a:ln>
        </p:spPr>
      </p:pic>
      <p:sp>
        <p:nvSpPr>
          <p:cNvPr id="376" name="Rettangolo 9"/>
          <p:cNvSpPr/>
          <p:nvPr/>
        </p:nvSpPr>
        <p:spPr>
          <a:xfrm>
            <a:off x="5613120" y="184644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Symbol"/>
              </a:rPr>
              <a:t>Chi-square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1.5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ttangolo 11"/>
          <p:cNvSpPr/>
          <p:nvPr/>
        </p:nvSpPr>
        <p:spPr>
          <a:xfrm>
            <a:off x="503280" y="59832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The value in this tables is 2.71 so our X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  <a:ea typeface="MS PGothic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is smaller (=1.55), and hence the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null hypothesis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is plausible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this is not a good pai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Immagine 1" descr=""/>
          <p:cNvPicPr/>
          <p:nvPr/>
        </p:nvPicPr>
        <p:blipFill>
          <a:blip r:embed="rId2"/>
          <a:stretch/>
        </p:blipFill>
        <p:spPr>
          <a:xfrm>
            <a:off x="719280" y="3762360"/>
            <a:ext cx="6840360" cy="1952640"/>
          </a:xfrm>
          <a:prstGeom prst="rect">
            <a:avLst/>
          </a:prstGeom>
          <a:ln w="0">
            <a:noFill/>
          </a:ln>
        </p:spPr>
      </p:pic>
      <p:sp>
        <p:nvSpPr>
          <p:cNvPr id="379" name="Rettangolo 2"/>
          <p:cNvSpPr/>
          <p:nvPr/>
        </p:nvSpPr>
        <p:spPr>
          <a:xfrm>
            <a:off x="3708360" y="3770280"/>
            <a:ext cx="647640" cy="1952640"/>
          </a:xfrm>
          <a:prstGeom prst="rect">
            <a:avLst/>
          </a:prstGeom>
          <a:noFill/>
          <a:ln w="572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ttangolo 3"/>
          <p:cNvSpPr/>
          <p:nvPr/>
        </p:nvSpPr>
        <p:spPr>
          <a:xfrm>
            <a:off x="503280" y="278136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254"/>
                </a:solidFill>
                <a:latin typeface="Lucida Sans"/>
                <a:ea typeface="MS PGothic"/>
              </a:rPr>
              <a:t>There are (r - 1)(c - 1) = 1* 1 = 1 degrees of free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ttangolo 14"/>
          <p:cNvSpPr/>
          <p:nvPr/>
        </p:nvSpPr>
        <p:spPr>
          <a:xfrm>
            <a:off x="719280" y="4194000"/>
            <a:ext cx="6840360" cy="290520"/>
          </a:xfrm>
          <a:prstGeom prst="rect">
            <a:avLst/>
          </a:prstGeom>
          <a:noFill/>
          <a:ln w="5724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Rettangolo 3"/>
          <p:cNvSpPr/>
          <p:nvPr/>
        </p:nvSpPr>
        <p:spPr>
          <a:xfrm>
            <a:off x="522360" y="327492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2673"/>
                </a:solidFill>
                <a:latin typeface="Lucida Sans"/>
                <a:ea typeface="MS PGothic"/>
              </a:rPr>
              <a:t>Let us consider a P-value = 0.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Rapid Automatic Keyword Extra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ttangolo 5"/>
          <p:cNvSpPr/>
          <p:nvPr/>
        </p:nvSpPr>
        <p:spPr>
          <a:xfrm>
            <a:off x="503280" y="1700280"/>
            <a:ext cx="82152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Key properti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Works on single (not much long)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asily applicable to new doma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Unsupervis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ttangolo 11"/>
          <p:cNvSpPr/>
          <p:nvPr/>
        </p:nvSpPr>
        <p:spPr>
          <a:xfrm>
            <a:off x="250920" y="486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Key observation: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keywords frequently contain multiple words but rarely contain punctuation or stop word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sing a documen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format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df/word/excel/html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language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character set is in use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Text Box 1028"/>
          <p:cNvSpPr/>
          <p:nvPr/>
        </p:nvSpPr>
        <p:spPr>
          <a:xfrm>
            <a:off x="609480" y="437976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Each of these is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  <a:ea typeface="MS PGothic"/>
              </a:rPr>
              <a:t>classification problem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786960" y="5576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But these tasks are often done heuristically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440" y="17521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he input paramete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set of word delimiters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set of phrase delimiters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list of stop words (or stoplist)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1: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cument is split into an array of words by the specified word delimiter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is array is split into sequences of contiguous words at phrase delimiters and then stop word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ords within a sequence are considered a candidate keyword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87200" y="479736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0" name="Immagin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731080" cy="3311640"/>
          </a:xfrm>
          <a:prstGeom prst="rect">
            <a:avLst/>
          </a:prstGeom>
          <a:ln w="0">
            <a:noFill/>
          </a:ln>
        </p:spPr>
      </p:pic>
      <p:pic>
        <p:nvPicPr>
          <p:cNvPr id="391" name="Immagine 4" descr=""/>
          <p:cNvPicPr/>
          <p:nvPr/>
        </p:nvPicPr>
        <p:blipFill>
          <a:blip r:embed="rId2"/>
          <a:stretch/>
        </p:blipFill>
        <p:spPr>
          <a:xfrm>
            <a:off x="250920" y="5221440"/>
            <a:ext cx="8893080" cy="1663560"/>
          </a:xfrm>
          <a:prstGeom prst="rect">
            <a:avLst/>
          </a:prstGeom>
          <a:ln w="0">
            <a:noFill/>
          </a:ln>
        </p:spPr>
      </p:pic>
      <p:grpSp>
        <p:nvGrpSpPr>
          <p:cNvPr id="392" name="Gruppo 14"/>
          <p:cNvGrpSpPr/>
          <p:nvPr/>
        </p:nvGrpSpPr>
        <p:grpSpPr>
          <a:xfrm>
            <a:off x="512640" y="5661000"/>
            <a:ext cx="7659720" cy="746280"/>
            <a:chOff x="512640" y="5661000"/>
            <a:chExt cx="7659720" cy="746280"/>
          </a:xfrm>
        </p:grpSpPr>
        <p:sp>
          <p:nvSpPr>
            <p:cNvPr id="393" name="Connettore 1 2"/>
            <p:cNvSpPr/>
            <p:nvPr/>
          </p:nvSpPr>
          <p:spPr>
            <a:xfrm>
              <a:off x="2843640" y="5661000"/>
              <a:ext cx="158400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Connettore 1 7"/>
            <p:cNvSpPr/>
            <p:nvPr/>
          </p:nvSpPr>
          <p:spPr>
            <a:xfrm flipV="1">
              <a:off x="4716000" y="5661000"/>
              <a:ext cx="1944360" cy="223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Connettore 1 9"/>
            <p:cNvSpPr/>
            <p:nvPr/>
          </p:nvSpPr>
          <p:spPr>
            <a:xfrm flipV="1">
              <a:off x="2678040" y="5877360"/>
              <a:ext cx="2685960" cy="223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Connettore 1 11"/>
            <p:cNvSpPr/>
            <p:nvPr/>
          </p:nvSpPr>
          <p:spPr>
            <a:xfrm flipV="1">
              <a:off x="5616000" y="5877000"/>
              <a:ext cx="1476000" cy="1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Connettore 1 13"/>
            <p:cNvSpPr/>
            <p:nvPr/>
          </p:nvSpPr>
          <p:spPr>
            <a:xfrm flipV="1">
              <a:off x="7380360" y="5899680"/>
              <a:ext cx="792000" cy="1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Connettore 1 15"/>
            <p:cNvSpPr/>
            <p:nvPr/>
          </p:nvSpPr>
          <p:spPr>
            <a:xfrm flipV="1">
              <a:off x="1763280" y="6142680"/>
              <a:ext cx="1224000" cy="1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Connettore 1 19"/>
            <p:cNvSpPr/>
            <p:nvPr/>
          </p:nvSpPr>
          <p:spPr>
            <a:xfrm flipV="1">
              <a:off x="512640" y="6396480"/>
              <a:ext cx="2165400" cy="1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0" name="Connettore 1 13"/>
          <p:cNvSpPr/>
          <p:nvPr/>
        </p:nvSpPr>
        <p:spPr>
          <a:xfrm flipV="1">
            <a:off x="471600" y="6164280"/>
            <a:ext cx="1004760" cy="144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39280" y="1557360"/>
            <a:ext cx="80629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2: Scoring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pute the table of co-occurrence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nd few metrics: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freq(w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total frequency on diagonal,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deg(w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sum over ro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3" name="Immagine 3" descr=""/>
          <p:cNvPicPr/>
          <p:nvPr/>
        </p:nvPicPr>
        <p:blipFill>
          <a:blip r:embed="rId1"/>
          <a:srcRect l="5619" t="5131" r="0" b="33979"/>
          <a:stretch/>
        </p:blipFill>
        <p:spPr>
          <a:xfrm>
            <a:off x="127080" y="3213000"/>
            <a:ext cx="8851680" cy="2016360"/>
          </a:xfrm>
          <a:prstGeom prst="rect">
            <a:avLst/>
          </a:prstGeom>
          <a:ln w="0">
            <a:noFill/>
          </a:ln>
        </p:spPr>
      </p:pic>
      <p:pic>
        <p:nvPicPr>
          <p:cNvPr id="404" name="Immagine 4" descr=""/>
          <p:cNvPicPr/>
          <p:nvPr/>
        </p:nvPicPr>
        <p:blipFill>
          <a:blip r:embed="rId2"/>
          <a:srcRect l="0" t="5690" r="0" b="0"/>
          <a:stretch/>
        </p:blipFill>
        <p:spPr>
          <a:xfrm>
            <a:off x="971640" y="5229360"/>
            <a:ext cx="7530840" cy="1628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557360"/>
            <a:ext cx="80629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2: Scoring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inal score is the sum of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deg(w)/freq(w)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for the constituting words w of a key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7" name="Immagine 4" descr=""/>
          <p:cNvPicPr/>
          <p:nvPr/>
        </p:nvPicPr>
        <p:blipFill>
          <a:blip r:embed="rId1"/>
          <a:srcRect l="0" t="5690" r="0" b="0"/>
          <a:stretch/>
        </p:blipFill>
        <p:spPr>
          <a:xfrm>
            <a:off x="804960" y="3035160"/>
            <a:ext cx="7530840" cy="16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08" name="Immagine 5" descr=""/>
          <p:cNvPicPr/>
          <p:nvPr/>
        </p:nvPicPr>
        <p:blipFill>
          <a:blip r:embed="rId2"/>
          <a:stretch/>
        </p:blipFill>
        <p:spPr>
          <a:xfrm>
            <a:off x="3240" y="4941720"/>
            <a:ext cx="90295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Segnaposto contenuto 2"/>
          <p:cNvSpPr/>
          <p:nvPr/>
        </p:nvSpPr>
        <p:spPr>
          <a:xfrm>
            <a:off x="539640" y="1700280"/>
            <a:ext cx="80629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Step #3: Adjoining keywords -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identifies keywords that contain interior stop words such as </a:t>
            </a:r>
            <a:r>
              <a:rPr b="0" i="1" lang="it-IT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axis of evil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Looks for pairs of keywords that adjoin one another </a:t>
            </a:r>
            <a:r>
              <a:rPr b="1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at least twice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n the same document and in the same ord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The score for the new keyword is the </a:t>
            </a:r>
            <a:r>
              <a:rPr b="1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um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of its member keyword score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Segnaposto contenuto 2"/>
          <p:cNvSpPr/>
          <p:nvPr/>
        </p:nvSpPr>
        <p:spPr>
          <a:xfrm>
            <a:off x="547560" y="5661000"/>
            <a:ext cx="806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  <a:ea typeface="Arial"/>
              </a:rPr>
              <a:t>Step #4: Selecting keywords -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Arial"/>
              </a:rPr>
              <a:t>the top one-third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3" name="Immagine 3" descr=""/>
          <p:cNvPicPr/>
          <p:nvPr/>
        </p:nvPicPr>
        <p:blipFill>
          <a:blip r:embed="rId1"/>
          <a:stretch/>
        </p:blipFill>
        <p:spPr>
          <a:xfrm>
            <a:off x="744480" y="1700280"/>
            <a:ext cx="7655040" cy="4465440"/>
          </a:xfrm>
          <a:prstGeom prst="rect">
            <a:avLst/>
          </a:prstGeom>
          <a:ln w="0">
            <a:noFill/>
          </a:ln>
        </p:spPr>
      </p:pic>
      <p:sp>
        <p:nvSpPr>
          <p:cNvPr id="414" name="Rettangolo 4"/>
          <p:cNvSpPr/>
          <p:nvPr/>
        </p:nvSpPr>
        <p:spPr>
          <a:xfrm>
            <a:off x="541440" y="6264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  <a:ea typeface="Arial"/>
              </a:rPr>
              <a:t>3 false positives and 1 false negative (but similar.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6" name="Immagine 3" descr=""/>
          <p:cNvPicPr/>
          <p:nvPr/>
        </p:nvPicPr>
        <p:blipFill>
          <a:blip r:embed="rId1"/>
          <a:stretch/>
        </p:blipFill>
        <p:spPr>
          <a:xfrm>
            <a:off x="533520" y="1908000"/>
            <a:ext cx="8076960" cy="3405240"/>
          </a:xfrm>
          <a:prstGeom prst="rect">
            <a:avLst/>
          </a:prstGeom>
          <a:ln w="0">
            <a:noFill/>
          </a:ln>
        </p:spPr>
      </p:pic>
      <p:sp>
        <p:nvSpPr>
          <p:cNvPr id="417" name="Rettangolo 4"/>
          <p:cNvSpPr/>
          <p:nvPr/>
        </p:nvSpPr>
        <p:spPr>
          <a:xfrm>
            <a:off x="708120" y="5589720"/>
            <a:ext cx="787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  <a:ea typeface="MS PGothic"/>
              </a:rPr>
              <a:t>Tutorial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www.airpair.com/nlp/keyword-extraction-tutor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  <a:ea typeface="MS PGothic"/>
              </a:rPr>
              <a:t>Python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github.com/zelandiya/RAKE-tutoria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riends, Romans and Countrym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Toke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139cb7"/>
                </a:solidFill>
                <a:latin typeface="Lucida Sans"/>
              </a:rPr>
              <a:t>tok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n instance of a sequence of charact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such token is now a candidate for an index entry, aft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urther process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what are valid tokens to emi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Lebensversicherungsgesellschaftsangestellte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= life insurance company employee in german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8" name="Picture 3" descr="Screen Shot 2012-09-25 at 11.00.33 AM.png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249" name="Rettangolo arrotondato 1"/>
          <p:cNvSpPr/>
          <p:nvPr/>
        </p:nvSpPr>
        <p:spPr>
          <a:xfrm>
            <a:off x="1547640" y="450864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Rettangolo arrotondato 5"/>
          <p:cNvSpPr/>
          <p:nvPr/>
        </p:nvSpPr>
        <p:spPr>
          <a:xfrm>
            <a:off x="5940360" y="2349360"/>
            <a:ext cx="1008000" cy="358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5" name="Picture 3" descr="Screen Shot 2012-09-25 at 11.07.28 AM.pn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56" name="Rettangolo arrotondato 5"/>
          <p:cNvSpPr/>
          <p:nvPr/>
        </p:nvSpPr>
        <p:spPr>
          <a:xfrm>
            <a:off x="2050920" y="189000"/>
            <a:ext cx="649440" cy="71892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718920"/>
              <a:gd name="textAreaBottom" fmla="*/ 687240 h 718920"/>
            </a:gdLst>
            <a:ahLst/>
            <a:rect l="textAreaLeft" t="textAreaTop" r="textAreaRight" b="textAreaBottom"/>
            <a:pathLst>
              <a:path w="21600" h="23910">
                <a:moveTo>
                  <a:pt x="3600" y="0"/>
                </a:moveTo>
                <a:arcTo wR="3600" hR="3600" stAng="16200000" swAng="-5400000"/>
                <a:lnTo>
                  <a:pt x="0" y="20310"/>
                </a:lnTo>
                <a:arcTo wR="3600" hR="3600" stAng="10800000" swAng="-5400000"/>
                <a:lnTo>
                  <a:pt x="18000" y="23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ttangolo arrotondato 6"/>
          <p:cNvSpPr/>
          <p:nvPr/>
        </p:nvSpPr>
        <p:spPr>
          <a:xfrm>
            <a:off x="4037040" y="1768320"/>
            <a:ext cx="649440" cy="436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10-15T20:00:32Z</dcterms:modified>
  <cp:revision>1212</cp:revision>
  <dc:subject/>
  <dc:title>Web Algorithmics</dc:title>
</cp:coreProperties>
</file>